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1CA-4F75-443D-AA20-68785806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9FC-A559-401E-9A52-A064609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8C8-0961-4E84-A25E-CC79C656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996-09FE-436D-B859-ACEAABB2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0952-BAF1-42A3-B402-9B508DD8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59C-8762-4DEA-AF73-EA17FB1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CBB-53A5-4523-92EF-D70D6C1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878-57EA-41A1-8213-B9433FF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BB9-D64F-4599-87E3-8227D0B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1B2A-CF7D-476A-A546-55BC0D6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033-499B-42E7-9184-48A2917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8B3-906D-4B1E-9AF4-011CB23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E022-3C9C-46C4-9665-7014C59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0CD8-41BA-4C18-9563-D4C37C49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E33E-6768-40CE-BAC5-545DC0A0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F12-67D0-4410-9AB1-C64FD8DD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B294-72E2-4443-AB31-D0CDA6A7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F20-F4B3-4D78-982F-12D2E76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93D-B05A-4F5B-BACB-9F79759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3C7-8C19-40BF-A3CC-D50FAFF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0F4-6120-45B6-913B-BDFA57C1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B59-8CCC-4682-9EF0-2C825AA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799-3B11-4863-9155-C6E7464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67C-D9A6-43FF-9BC0-75818C3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DAE-D775-4032-BBF4-FE54DBABD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D1A-85F6-4C1E-9D9B-964650356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eorema lui Thales</a:t>
            </a:r>
            <a:br>
              <a:rPr sz="5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ZUL 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77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pa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roş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egledi Krist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Sebestyen Szabol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03640" y="3789360"/>
            <a:ext cx="35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003640" y="765000"/>
            <a:ext cx="280836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51640" y="549360"/>
            <a:ext cx="295272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1800" y="16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440" y="378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312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836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1640" y="306864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5600" y="692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14520" y="5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256536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8680" y="270828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xxx</cp:lastModifiedBy>
  <dcterms:modified xsi:type="dcterms:W3CDTF">2011-02-24T22:03:41Z</dcterms:modified>
  <cp:revision>5</cp:revision>
  <dc:subject/>
  <dc:title>Slide 1</dc:title>
</cp:coreProperties>
</file>